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2BB-DA1A-4C26-A2E3-50850B64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0B3-9A36-41C9-AA27-7BC64A81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5D0-951A-43E4-98AC-4700FB57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C37-D5F7-4B78-9933-9881AEA0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1EA6-8C28-44CE-A2E3-23983AF0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E3B1-0FD0-40B9-A4FB-CC39511B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7A68-0844-4F61-9BF5-1FA5C878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9C0A-16EF-4A2E-A231-0487C986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E16C-2973-4B34-B319-295CD449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7269-B589-4870-8960-418EEC1E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A410-3406-41EC-941B-0B228DAA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CC0-109B-4D5C-BA7C-75011600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5541-6C9E-4456-9C92-6E16A5C6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9980-7CDF-4FCB-9A07-E25B5B6B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AEDC-0A76-4F58-861A-45CEF0BD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6408-5604-4486-99F3-3C19AC8D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0FEC-27FD-45B2-9086-E336BC7A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71F-B5A4-459B-BA80-75B0BC05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795-D02F-40F8-B6B4-DD034892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148-796D-40A4-AF29-7C72D7E9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EE2-3D08-433D-BA0A-3E945885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EB7-88B9-4325-990D-1EA1AB6B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C6A-8334-4C61-84D0-59C15416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0E4-2BFC-4872-94D3-5726D5F9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3E3B-33EC-499F-9277-CA463A3FB6A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7EB4-3C74-42E2-B2D7-ACCBE1A0262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1187280" y="1484280"/>
            <a:ext cx="684072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Всегда твой выбор!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6" descr=""/>
          <p:cNvPicPr/>
          <p:nvPr/>
        </p:nvPicPr>
        <p:blipFill>
          <a:blip r:embed="rId1"/>
          <a:stretch/>
        </p:blipFill>
        <p:spPr>
          <a:xfrm>
            <a:off x="0" y="3068640"/>
            <a:ext cx="1512720" cy="244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47640" y="1773000"/>
            <a:ext cx="2880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НАМЕРЕНИЕ ОСУЖДАТЬ И ОЦЕНИВА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51280" y="1628280"/>
            <a:ext cx="3168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7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НАМЕРЕНИЕ СДЕЛАТЬ МИР ЛУЧШ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0" y="333360"/>
            <a:ext cx="450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СТРЕМИТЕЛЬ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ТРЕВОЖНОСТ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356000" y="476280"/>
            <a:ext cx="450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БЕЖ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ПРИСУТСТВИ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250920" y="2133720"/>
            <a:ext cx="1152360" cy="431640"/>
          </a:xfrm>
          <a:prstGeom prst="wedgeRoundRectCallout">
            <a:avLst>
              <a:gd name="adj1" fmla="val -7712"/>
              <a:gd name="adj2" fmla="val 18198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здес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4427640" y="1989000"/>
            <a:ext cx="1152360" cy="936720"/>
          </a:xfrm>
          <a:prstGeom prst="wedgeRoundRectCallout">
            <a:avLst>
              <a:gd name="adj1" fmla="val 6337"/>
              <a:gd name="adj2" fmla="val 8491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жив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активен и мне хорошо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2">
            <a:lum bright="6000"/>
          </a:blip>
          <a:srcRect l="5198" t="0" r="0" b="0"/>
          <a:stretch/>
        </p:blipFill>
        <p:spPr>
          <a:xfrm>
            <a:off x="4356000" y="3284640"/>
            <a:ext cx="1300320" cy="1904760"/>
          </a:xfrm>
          <a:prstGeom prst="rect">
            <a:avLst/>
          </a:prstGeom>
          <a:ln w="0">
            <a:noFill/>
          </a:ln>
        </p:spPr>
      </p:pic>
      <p:sp>
        <p:nvSpPr>
          <p:cNvPr id="183" name="WordArt 10"/>
          <p:cNvSpPr txBox="1"/>
          <p:nvPr/>
        </p:nvSpPr>
        <p:spPr>
          <a:xfrm>
            <a:off x="1547640" y="573408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!!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5580000" y="5734080"/>
            <a:ext cx="2925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Ы!!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5651640" y="1557360"/>
            <a:ext cx="3419280" cy="4032360"/>
          </a:xfrm>
          <a:prstGeom prst="rightArrowCallout">
            <a:avLst>
              <a:gd name="adj1" fmla="val 29485"/>
              <a:gd name="adj2" fmla="val 29483"/>
              <a:gd name="adj3" fmla="val 16667"/>
              <a:gd name="adj4" fmla="val 7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15"/>
          <p:cNvSpPr/>
          <p:nvPr/>
        </p:nvSpPr>
        <p:spPr>
          <a:xfrm rot="10800000">
            <a:off x="899640" y="1628280"/>
            <a:ext cx="3419640" cy="3961080"/>
          </a:xfrm>
          <a:prstGeom prst="rightArrowCallout">
            <a:avLst>
              <a:gd name="adj1" fmla="val 28961"/>
              <a:gd name="adj2" fmla="val 28958"/>
              <a:gd name="adj3" fmla="val 16667"/>
              <a:gd name="adj4" fmla="val 7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5" descr=""/>
          <p:cNvPicPr/>
          <p:nvPr/>
        </p:nvPicPr>
        <p:blipFill>
          <a:blip r:embed="rId1"/>
          <a:stretch/>
        </p:blipFill>
        <p:spPr>
          <a:xfrm>
            <a:off x="34920" y="3141720"/>
            <a:ext cx="1512720" cy="244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47640" y="1773000"/>
            <a:ext cx="2880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НАМЕРЕНИЕ ОСУЖДАТЬ И ОЦЕНИВА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51280" y="1628280"/>
            <a:ext cx="3168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7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НАМЕРЕНИЕ СДЕЛАТЬ МИР ЛУЧШ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333360"/>
            <a:ext cx="450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СТРЕМИТЕЛЬ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ТРЕВОЖНОСТ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356000" y="476280"/>
            <a:ext cx="450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БЕЖ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ПРИСУТСТВИ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250920" y="2133720"/>
            <a:ext cx="1152360" cy="431640"/>
          </a:xfrm>
          <a:prstGeom prst="wedgeRoundRectCallout">
            <a:avLst>
              <a:gd name="adj1" fmla="val -7712"/>
              <a:gd name="adj2" fmla="val 18198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здес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4427640" y="1989000"/>
            <a:ext cx="1152360" cy="936720"/>
          </a:xfrm>
          <a:prstGeom prst="wedgeRoundRectCallout">
            <a:avLst>
              <a:gd name="adj1" fmla="val 6337"/>
              <a:gd name="adj2" fmla="val 8491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жив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активен и мне хорошо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9" descr=""/>
          <p:cNvPicPr/>
          <p:nvPr/>
        </p:nvPicPr>
        <p:blipFill>
          <a:blip r:embed="rId2">
            <a:lum bright="6000"/>
          </a:blip>
          <a:srcRect l="5198" t="0" r="0" b="0"/>
          <a:stretch/>
        </p:blipFill>
        <p:spPr>
          <a:xfrm>
            <a:off x="4356000" y="3284640"/>
            <a:ext cx="1300320" cy="1904760"/>
          </a:xfrm>
          <a:prstGeom prst="rect">
            <a:avLst/>
          </a:prstGeom>
          <a:ln w="0">
            <a:noFill/>
          </a:ln>
        </p:spPr>
      </p:pic>
      <p:sp>
        <p:nvSpPr>
          <p:cNvPr id="195" name="WordArt 10"/>
          <p:cNvSpPr txBox="1"/>
          <p:nvPr/>
        </p:nvSpPr>
        <p:spPr>
          <a:xfrm>
            <a:off x="1763640" y="5661000"/>
            <a:ext cx="2303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!!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11"/>
          <p:cNvSpPr txBox="1"/>
          <p:nvPr/>
        </p:nvSpPr>
        <p:spPr>
          <a:xfrm>
            <a:off x="5651640" y="5661000"/>
            <a:ext cx="278100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Ы!!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5689440" y="1557360"/>
            <a:ext cx="3419640" cy="4032360"/>
          </a:xfrm>
          <a:prstGeom prst="rightArrowCallout">
            <a:avLst>
              <a:gd name="adj1" fmla="val 29482"/>
              <a:gd name="adj2" fmla="val 29479"/>
              <a:gd name="adj3" fmla="val 16667"/>
              <a:gd name="adj4" fmla="val 7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AutoShape 13"/>
          <p:cNvSpPr/>
          <p:nvPr/>
        </p:nvSpPr>
        <p:spPr>
          <a:xfrm rot="10800000">
            <a:off x="899640" y="1628280"/>
            <a:ext cx="3419640" cy="3961080"/>
          </a:xfrm>
          <a:prstGeom prst="rightArrowCallout">
            <a:avLst>
              <a:gd name="adj1" fmla="val 28961"/>
              <a:gd name="adj2" fmla="val 28958"/>
              <a:gd name="adj3" fmla="val 16667"/>
              <a:gd name="adj4" fmla="val 7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WordArt 14"/>
          <p:cNvSpPr txBox="1"/>
          <p:nvPr/>
        </p:nvSpPr>
        <p:spPr>
          <a:xfrm>
            <a:off x="2124000" y="5877000"/>
            <a:ext cx="5562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ГДА ТВОЙ ВЫБОР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2496600"/>
            <a:ext cx="3744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2496600"/>
            <a:ext cx="54356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2133360"/>
            <a:ext cx="4176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САМОУТВЕРЖДЕНИ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0" y="2133720"/>
            <a:ext cx="4572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176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САМОУТВЕРЖДЕНИ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41680" y="2204640"/>
            <a:ext cx="4680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3816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16000" y="1628280"/>
            <a:ext cx="4248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44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44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44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3816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0" y="981000"/>
            <a:ext cx="424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7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4280" indent="-357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44280" indent="-357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44280" indent="-357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44280" indent="-357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381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16000" y="764640"/>
            <a:ext cx="42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0920" y="620640"/>
            <a:ext cx="381636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НАМЕРЕНИЕ ОСУЖДАТЬ И ОЦЕНИВ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16000" y="549000"/>
            <a:ext cx="4248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7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54360" indent="-36180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54360" indent="-36180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54360" indent="-36180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54360" indent="-36180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НАМЕРЕНИЕ СДЕЛАТЬ МИР ЛУЧШ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47640" y="1773000"/>
            <a:ext cx="288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МЕРЕНИЕ ОСУЖДАТЬ И ОЦЕНИВА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96000" y="1628640"/>
            <a:ext cx="316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7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МЕРЕНИЕ СДЕЛАТЬ МИР ЛУЧШ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333360"/>
            <a:ext cx="450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СТРЕМИТЕЛЬ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ТРЕВОЖНОСТ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356000" y="476280"/>
            <a:ext cx="450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БЕЖ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ПРИСУТСТВИ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250920" y="2349360"/>
            <a:ext cx="1152360" cy="432000"/>
          </a:xfrm>
          <a:prstGeom prst="wedgeRoundRectCallout">
            <a:avLst>
              <a:gd name="adj1" fmla="val -18180"/>
              <a:gd name="adj2" fmla="val 147425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здес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572000" y="1916280"/>
            <a:ext cx="1152360" cy="936360"/>
          </a:xfrm>
          <a:prstGeom prst="wedgeRoundRectCallout">
            <a:avLst>
              <a:gd name="adj1" fmla="val 6337"/>
              <a:gd name="adj2" fmla="val 8491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жив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активен и мне хорошо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284720" y="3284640"/>
            <a:ext cx="1371600" cy="190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"/>
          <p:cNvPicPr/>
          <p:nvPr/>
        </p:nvPicPr>
        <p:blipFill>
          <a:blip r:embed="rId2"/>
          <a:stretch/>
        </p:blipFill>
        <p:spPr>
          <a:xfrm>
            <a:off x="106200" y="3284640"/>
            <a:ext cx="1513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4:50:44Z</dcterms:created>
  <dc:creator>USER</dc:creator>
  <dc:description/>
  <dc:language>en-US</dc:language>
  <cp:lastModifiedBy>HP</cp:lastModifiedBy>
  <dcterms:modified xsi:type="dcterms:W3CDTF">2020-11-05T06:54:09Z</dcterms:modified>
  <cp:revision>11</cp:revision>
  <dc:subject/>
  <dc:title>Слайд 1</dc:title>
</cp:coreProperties>
</file>